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5D6-5459-4374-B3C3-7E5049BD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810-E65F-45E3-B0A8-DCA1C662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557-06E2-4C73-8242-EB0CF406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788-5995-4A0D-82A3-59EF193A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9BE-D1C6-488B-91D5-B4011AC8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23B-881A-4EC1-989A-DE45007B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050-B194-4F64-91FF-254D1FDF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E81-EAB8-4BF9-B8AA-D1EA00EC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1F3-BE1D-4711-A7BA-C62E3F29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C4C-18CC-4949-9284-BBCC7580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B23-B354-4830-93A2-58A803B7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9DA-6363-455C-A09C-ACF891AC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8A2E-0A0F-418D-A1C6-6B33ABB20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ddle Ages: Western Europ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00’s - 1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6360" y="1828800"/>
            <a:ext cx="775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ers to family identifications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dieval Europe.  Royal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ntified themselves with cres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decorative symbols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.g. Tudors; Stuarts; Hapsbur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henstaufens; Bourb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990720"/>
            <a:ext cx="23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Herald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78Royalty 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4500" r="0" b="7500"/>
          <a:stretch/>
        </p:blipFill>
        <p:spPr>
          <a:xfrm>
            <a:off x="533520" y="228600"/>
            <a:ext cx="8129520" cy="5369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5320" y="5562720"/>
            <a:ext cx="843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dieval dress styles in England (1400s): Judg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ntleman, Lady of rank, courtier, lady of 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79haw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9000" t="0" r="9000" b="0"/>
          <a:stretch/>
        </p:blipFill>
        <p:spPr>
          <a:xfrm>
            <a:off x="2478240" y="304920"/>
            <a:ext cx="6665760" cy="6097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2160" y="1066680"/>
            <a:ext cx="2209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Hawking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edie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pop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ort am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&amp;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1240" y="1828800"/>
            <a:ext cx="8419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received extensive trai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ginning with service as a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ag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t about the age of seve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t about the age of 14 a page c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come a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quir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inally at about the age of 21, a squi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come a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knigh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0440" y="228600"/>
            <a:ext cx="845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Knight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were the warriors that fought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half of kings and nob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24kn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52120" y="426960"/>
            <a:ext cx="71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ighting ceremony (14thc manu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23swearing fea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04640" y="6095880"/>
            <a:ext cx="47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wearing fealty to the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7360" y="1905120"/>
            <a:ext cx="8718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ers to the Code of ethics adh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by knight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 entailed courage, loyalty, honor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teness, protection, of the 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or Lord); of women &amp; children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&amp; of the “Holy Mother Church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6400" y="914400"/>
            <a:ext cx="21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hival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216Military costu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7500" r="0" b="7500"/>
          <a:stretch/>
        </p:blipFill>
        <p:spPr>
          <a:xfrm>
            <a:off x="457200" y="533520"/>
            <a:ext cx="8129520" cy="5182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86720" y="5867280"/>
            <a:ext cx="641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ilitary Costumes of 15th c kn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48320" y="68580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215knightarm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5875" t="0" r="25875" b="0"/>
          <a:stretch/>
        </p:blipFill>
        <p:spPr>
          <a:xfrm>
            <a:off x="4648320" y="457200"/>
            <a:ext cx="3922560" cy="6097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9240" y="2043000"/>
            <a:ext cx="4190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rmo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became obso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the middle of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6th c. because it d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t protect well enoug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ainst g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217knight/ho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6875" t="0" r="16875" b="0"/>
          <a:stretch/>
        </p:blipFill>
        <p:spPr>
          <a:xfrm>
            <a:off x="3352680" y="380880"/>
            <a:ext cx="5386680" cy="6097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4680" y="152388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Horse Ar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1400" y="1371600"/>
            <a:ext cx="8692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centralized form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und in Western Europe after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ll of the Roman Emp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• 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ings” and Nobles fought ea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for territory &amp; the alleg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609480"/>
            <a:ext cx="266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219jo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1250" t="0" r="11250" b="0"/>
          <a:stretch/>
        </p:blipFill>
        <p:spPr>
          <a:xfrm>
            <a:off x="2362320" y="380880"/>
            <a:ext cx="6300720" cy="6097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3320" y="1309680"/>
            <a:ext cx="18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ou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3th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220tourna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47160" y="6156360"/>
            <a:ext cx="44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4th c .Tourna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0760" y="1295280"/>
            <a:ext cx="9055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astle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f early Medieval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ere fortresses built for protection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emies.  They were surrounded by a mo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&amp; had only a few (small) window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were basically self-suffic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 storage rooms &amp; craft shops. 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reas were mostly dark &amp; cold with fe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cor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2160" y="33480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ast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50120" cy="5027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94000" y="5500800"/>
            <a:ext cx="436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edieval Cas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15Fort/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043360" y="563400"/>
            <a:ext cx="47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edieval Fort/Cas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214Eng fort/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86880" y="426960"/>
            <a:ext cx="584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 fort/cas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(medieval military archite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235Castle/W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11040" y="6278400"/>
            <a:ext cx="68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ins of a Fort/Castle in Wales,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231Edinburgh scot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6200" y="621648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dinburgh castle in Sco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4120" y="609480"/>
            <a:ext cx="2590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D216wall-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0250" t="0" r="20250" b="0"/>
          <a:stretch/>
        </p:blipFill>
        <p:spPr>
          <a:xfrm>
            <a:off x="4032360" y="228600"/>
            <a:ext cx="4836960" cy="6097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31840" y="1143000"/>
            <a:ext cx="379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Wall-wal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 a Britis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s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keep wat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to defend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stle from assa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19drawbri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556160" y="595800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4120" y="5973840"/>
            <a:ext cx="280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rawbrid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58800" y="390600"/>
            <a:ext cx="586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eud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eudal comes from the Latin word 'feudum' meaning 'land'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et’s take a look at the structure of feudalism with a focus on England after the invasion of William of Norman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3786120"/>
            <a:ext cx="49528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26Tower of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910200" cy="5182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50440" y="5667480"/>
            <a:ext cx="78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wer of London; Royal residence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cluded water moat; outer &amp; inner wa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228chapel in 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13320" y="6095880"/>
            <a:ext cx="88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pels in castles were common in Medieval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80" y="2209680"/>
            <a:ext cx="9302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uilding complexes where monks liv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laces of refug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n feudal Europ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nks who lived there engaged in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ay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od works, agricultural projects, &amp; variou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rts &amp; crafts such as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opying manuscript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&amp; making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tained glass window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360" y="1666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4760" y="990720"/>
            <a:ext cx="33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Monaste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68StBen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60monastery/Scottish is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129880" cy="6097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48000" y="228600"/>
            <a:ext cx="792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asteries, such as this one on a Scottish is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d as havens for Christianity and Wes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ization in an era of barbarism after the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Roman Emp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67Mon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1376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0080" y="5715000"/>
            <a:ext cx="827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nedictine Abbey. From here colonies of monks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 &amp; converted many Germanic tribes to Christia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970760" cy="4932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97560" y="5334120"/>
            <a:ext cx="695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Old English Text MT"/>
              </a:rPr>
              <a:t>Monk in monastery, cop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Old English Text MT"/>
              </a:rPr>
              <a:t>religious &amp; classical tex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41920" y="0"/>
            <a:ext cx="53020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1960" y="1219320"/>
            <a:ext cx="3076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die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ook c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oduced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onast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033800" y="4680"/>
            <a:ext cx="5110200" cy="6853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000" y="533520"/>
            <a:ext cx="3719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Medie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Stained Gla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Wind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onastic cra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th artist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&amp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ducat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ignifica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60" y="1279440"/>
            <a:ext cx="8864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could be 300 acres or 3000 acr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was a self-sufficient village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cluded a “castle” or Lord’s hous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asant (serf) houses, a church, craf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ops, fields, woods, &amp; flour mill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Lord made and enforced the law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Mano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enjoyed weddings, baptism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hess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0760" y="0"/>
            <a:ext cx="857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Mano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fers to a large estate contro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y a Lord or no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1892160"/>
            <a:ext cx="1371600" cy="185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1757520" cy="179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038480"/>
            <a:ext cx="82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s King of England, William owned all the land in Eng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only person above the King was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4720" y="1219320"/>
            <a:ext cx="8908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ere peasant farmers who w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ound to the soil” (not allow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ve the Manor where they were born).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might have garden &amp; a few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or themselves, but they also perform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orve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abor for the Lor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lived in primitive one-room ho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 dirt floors &amp; usually no chimne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8720" y="4572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erfs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6250" t="0" r="0" b="14815"/>
          <a:stretch/>
        </p:blipFill>
        <p:spPr>
          <a:xfrm>
            <a:off x="685800" y="0"/>
            <a:ext cx="7907400" cy="6062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36280" y="6095880"/>
            <a:ext cx="392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dieval Man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84Pea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06000" y="6095880"/>
            <a:ext cx="62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elebration at the end of a harv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86Pea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37320" y="62784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dieval serf celebration after a harv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04120" cy="5506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81280" y="5897520"/>
            <a:ext cx="57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rfs on a Medieval Ma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87Manor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3000" r="0" b="3000"/>
          <a:stretch/>
        </p:blipFill>
        <p:spPr>
          <a:xfrm>
            <a:off x="533520" y="304920"/>
            <a:ext cx="8129520" cy="5732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2040" y="6156360"/>
            <a:ext cx="57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ife on a medieval ma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403880" y="6238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600200"/>
            <a:ext cx="9271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rganizations of craftsmen &amp; merch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at established prices, standards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olic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also provided so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tual aid in times of ne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each had a “patron saint” and the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joyed weddings, baptisms, &amp; holid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elebrations toge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8360" y="5335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Guil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Master of the Guild o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ned and managed a shop (hats,shoes, tools, etc)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1480" y="1600200"/>
            <a:ext cx="84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trained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Apprentice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who learned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raft in exchange for Room &amp; board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3200400"/>
            <a:ext cx="85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t about age 21 the apprentice became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Journeym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&amp; received wag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4648320"/>
            <a:ext cx="870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ter he might produce a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masterpiec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&amp; qualify for a license to open 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wn shop &amp; hire his own apprenti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9720" y="1112760"/>
            <a:ext cx="75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ccurred partly as a result of “Fair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ich were held periodically 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signated pla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2920" y="304920"/>
            <a:ext cx="86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Rise of Towns in Medieval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520" y="3505320"/>
            <a:ext cx="8466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se gatherings of craftsmen 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rchants eventually became perman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cations where people lived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turning to the Manor.  e.g Oxford 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mbrid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1640" y="761760"/>
            <a:ext cx="3886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07MedievalT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0250" t="0" r="20250" b="0"/>
          <a:stretch/>
        </p:blipFill>
        <p:spPr>
          <a:xfrm>
            <a:off x="3809880" y="304920"/>
            <a:ext cx="4837320" cy="6097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1680" y="1371600"/>
            <a:ext cx="3215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edieval 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ows a lac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fter the fall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oman Emp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rrow, croo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reets; lack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n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The Tenants in Chie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267080"/>
            <a:ext cx="829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se were the 200 or so most important people in England.  King William gave them land and they promised to help him rule and provide knights for his ar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1689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n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ddle Ages: Western Europ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00s - 1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Under-Ten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3800" y="42940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876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Tenants-in-Chief gave away some of their land to knights.  The knights had to promise to obey the Tenants-in-Chief and provide services for them.  There were around 5000 Under-Tenants in Eng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20131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The Peasants (Villein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7242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Under-Tenants would let their land be used by the peasants.  In return, the peasants had to obey the Under-Tenants and work extremely hard for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2000" r="0" b="12000"/>
          <a:stretch/>
        </p:blipFill>
        <p:spPr>
          <a:xfrm>
            <a:off x="1752480" y="1523880"/>
            <a:ext cx="5715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62520" y="152280"/>
            <a:ext cx="1127160" cy="15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43800" y="1828800"/>
            <a:ext cx="115884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768760" y="1828800"/>
            <a:ext cx="115884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156280" y="1828800"/>
            <a:ext cx="115884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80880" y="1828800"/>
            <a:ext cx="11588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6320" y="3809880"/>
            <a:ext cx="1828800" cy="1143000"/>
            <a:chOff x="76320" y="3809880"/>
            <a:chExt cx="1828800" cy="1143000"/>
          </a:xfrm>
        </p:grpSpPr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7632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68940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130248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2463840" y="3809880"/>
            <a:ext cx="1828800" cy="1143000"/>
            <a:chOff x="2463840" y="3809880"/>
            <a:chExt cx="1828800" cy="1143000"/>
          </a:xfrm>
        </p:grpSpPr>
        <p:pic>
          <p:nvPicPr>
            <p:cNvPr id="72" name="" descr=""/>
            <p:cNvPicPr/>
            <p:nvPr/>
          </p:nvPicPr>
          <p:blipFill>
            <a:blip r:embed="rId9"/>
            <a:stretch/>
          </p:blipFill>
          <p:spPr>
            <a:xfrm>
              <a:off x="246384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0"/>
            <a:stretch/>
          </p:blipFill>
          <p:spPr>
            <a:xfrm>
              <a:off x="307692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1"/>
            <a:stretch/>
          </p:blipFill>
          <p:spPr>
            <a:xfrm>
              <a:off x="369000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4851360" y="3809880"/>
            <a:ext cx="1828800" cy="1143000"/>
            <a:chOff x="4851360" y="3809880"/>
            <a:chExt cx="1828800" cy="1143000"/>
          </a:xfrm>
        </p:grpSpPr>
        <p:pic>
          <p:nvPicPr>
            <p:cNvPr id="76" name="" descr=""/>
            <p:cNvPicPr/>
            <p:nvPr/>
          </p:nvPicPr>
          <p:blipFill>
            <a:blip r:embed="rId12"/>
            <a:stretch/>
          </p:blipFill>
          <p:spPr>
            <a:xfrm>
              <a:off x="485136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3"/>
            <a:stretch/>
          </p:blipFill>
          <p:spPr>
            <a:xfrm>
              <a:off x="546444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4"/>
            <a:stretch/>
          </p:blipFill>
          <p:spPr>
            <a:xfrm>
              <a:off x="607752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"/>
          <p:cNvGrpSpPr/>
          <p:nvPr/>
        </p:nvGrpSpPr>
        <p:grpSpPr>
          <a:xfrm>
            <a:off x="7238880" y="3809880"/>
            <a:ext cx="1828800" cy="1143000"/>
            <a:chOff x="7238880" y="3809880"/>
            <a:chExt cx="1828800" cy="1143000"/>
          </a:xfrm>
        </p:grpSpPr>
        <p:pic>
          <p:nvPicPr>
            <p:cNvPr id="80" name="" descr=""/>
            <p:cNvPicPr/>
            <p:nvPr/>
          </p:nvPicPr>
          <p:blipFill>
            <a:blip r:embed="rId15"/>
            <a:stretch/>
          </p:blipFill>
          <p:spPr>
            <a:xfrm>
              <a:off x="723888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6"/>
            <a:stretch/>
          </p:blipFill>
          <p:spPr>
            <a:xfrm>
              <a:off x="785196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7"/>
            <a:stretch/>
          </p:blipFill>
          <p:spPr>
            <a:xfrm>
              <a:off x="846504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18"/>
          <a:srcRect l="0" t="12000" r="0" b="12000"/>
          <a:stretch/>
        </p:blipFill>
        <p:spPr>
          <a:xfrm flipH="1">
            <a:off x="7596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9"/>
          <a:srcRect l="0" t="12000" r="0" b="12000"/>
          <a:stretch/>
        </p:blipFill>
        <p:spPr>
          <a:xfrm flipH="1">
            <a:off x="570348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0"/>
          <a:srcRect l="0" t="12000" r="0" b="12000"/>
          <a:stretch/>
        </p:blipFill>
        <p:spPr>
          <a:xfrm flipH="1">
            <a:off x="113328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1"/>
          <a:srcRect l="0" t="12000" r="0" b="12000"/>
          <a:stretch/>
        </p:blipFill>
        <p:spPr>
          <a:xfrm flipH="1">
            <a:off x="237312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2"/>
          <a:srcRect l="0" t="12000" r="0" b="12000"/>
          <a:stretch/>
        </p:blipFill>
        <p:spPr>
          <a:xfrm flipH="1">
            <a:off x="342864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3"/>
          <a:srcRect l="0" t="12000" r="0" b="12000"/>
          <a:stretch/>
        </p:blipFill>
        <p:spPr>
          <a:xfrm flipH="1">
            <a:off x="464796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4"/>
          <a:srcRect l="0" t="12000" r="0" b="12000"/>
          <a:stretch/>
        </p:blipFill>
        <p:spPr>
          <a:xfrm flipH="1">
            <a:off x="693396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5"/>
          <a:srcRect l="0" t="12000" r="0" b="12000"/>
          <a:stretch/>
        </p:blipFill>
        <p:spPr>
          <a:xfrm flipH="1">
            <a:off x="7989480" y="5257800"/>
            <a:ext cx="106668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1480" y="1600200"/>
            <a:ext cx="891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Kings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 r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iona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rulers who compe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th each other &amp; with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oble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or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 territory &amp; peoples’ allegianc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Knight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were the warriors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ught in behalf of kings and nob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7680" y="838080"/>
            <a:ext cx="66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Feudalism in Wester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6:50:26Z</dcterms:created>
  <dc:creator>Pat Neils</dc:creator>
  <dc:description/>
  <dc:language>en-US</dc:language>
  <cp:lastModifiedBy>Susan Gregory</cp:lastModifiedBy>
  <dcterms:modified xsi:type="dcterms:W3CDTF">2004-09-14T06:15:57Z</dcterms:modified>
  <cp:revision>91</cp:revision>
  <dc:subject/>
  <dc:title>PowerPoint Presentation</dc:title>
</cp:coreProperties>
</file>